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73AD-4156-48F2-9D92-3138D8E5BDDB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スライド番号プレースホル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88DD-3B5E-490D-8688-57C68C5C9D96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04C7-3A32-41D5-813C-B1AE92121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7435A-FFBC-489A-8123-714D27782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6E0B-DC89-4FC0-A35D-4859BC8A2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B44A-9DC6-4B27-BBEA-72FB31646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1CADE-6EA1-43E4-BCD7-79898CA99C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EC2B9-EB0D-4669-AE1B-9D6DFE1C91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17404-B0BF-406A-AFA5-3980267A93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6F226-A876-46C7-96F7-BCD017ADE8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BDA7F-2F88-44C4-9B83-52A69E611C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FFE2F-5D4A-45EB-B183-26A56D523D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6CF05-DA25-443E-9892-0E8AA97AC2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2DCD8-18DE-4C0D-B48E-83214CE6E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05327-6110-48D0-A17B-2038628938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F4F75-6705-4A9D-8AA2-4FC488F756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11FF9-F61F-4BB6-BEAB-A5C3DDCE62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E873D-9E4E-43E8-92DB-BED70B98CB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E238F-8FE3-4599-A123-F8C58D8DA8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E2E4-E67C-4A1D-9A9D-15FB4D2E07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B9C8-56F1-4D4C-8CE6-A1B89BCB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F926-3C0E-4E58-8742-8F215A75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AC1-0C25-43B9-8BB6-E2777019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F889-5168-4B25-81C6-6911C1F2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38CA5-8474-4974-9DD2-AB1B743C53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450C-13B4-4E09-8AEA-388223F2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7181-7142-4FC4-A5F8-C7361213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2DEA-051C-4019-BD25-2B0AC9DF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A2A4-DC27-4BDB-AD8B-683DC364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CD7-F499-45D6-878C-B0F82B6D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91D-57C8-410D-A760-050247E5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DBB3-DF76-490D-BF0E-767CD5FE6A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48E6-10BA-42D1-BF4A-C289D82D1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33479-8898-4DAD-8BBF-A52F4D798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BB1E-5B03-47AE-A8AC-1F72B2A2C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C0B7D-8779-4D80-A049-9EBB3C21A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F26C-5684-4B59-8401-338D4C61A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77A4-7358-4959-9FD7-4D66A74CA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DDDF-933E-4901-A7E7-8D901F0F7B28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角丸四角形 10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5" name="テキスト ボックス 12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図 1" descr=""/>
          <p:cNvPicPr/>
          <p:nvPr/>
        </p:nvPicPr>
        <p:blipFill>
          <a:blip r:embed="rId3"/>
          <a:stretch/>
        </p:blipFill>
        <p:spPr>
          <a:xfrm>
            <a:off x="6684840" y="6523200"/>
            <a:ext cx="1822680" cy="28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テキスト ボックス 9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3230640" y="4413240"/>
            <a:ext cx="2800440" cy="1924200"/>
          </a:xfrm>
          <a:prstGeom prst="rect">
            <a:avLst/>
          </a:prstGeom>
          <a:ln w="0">
            <a:noFill/>
          </a:ln>
        </p:spPr>
      </p:pic>
      <p:pic>
        <p:nvPicPr>
          <p:cNvPr id="47" name="図 15" descr=""/>
          <p:cNvPicPr/>
          <p:nvPr/>
        </p:nvPicPr>
        <p:blipFill>
          <a:blip r:embed="rId3"/>
          <a:stretch/>
        </p:blipFill>
        <p:spPr>
          <a:xfrm>
            <a:off x="6746760" y="6526080"/>
            <a:ext cx="1792440" cy="281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863C-8EBD-432F-8BB1-BBAEACD64A61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角丸四角形 10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89" name="テキスト ボックス 12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図 1" descr=""/>
          <p:cNvPicPr/>
          <p:nvPr/>
        </p:nvPicPr>
        <p:blipFill>
          <a:blip r:embed="rId3"/>
          <a:stretch/>
        </p:blipFill>
        <p:spPr>
          <a:xfrm>
            <a:off x="6684840" y="6523200"/>
            <a:ext cx="1822680" cy="285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F5D3-63A5-47A5-A6A4-724828E74783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4"/>
          </p:nvPr>
        </p:nvSpPr>
        <p:spPr>
          <a:xfrm>
            <a:off x="63360" y="6586560"/>
            <a:ext cx="10447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715D-D73C-4300-BAB0-A499939441AF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1FBD-3DF7-45D3-A2E5-E4D54BA90727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1874-DE00-400B-B97B-76061DB09A12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1080" y="622440"/>
            <a:ext cx="83916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0" lang="ja-JP" sz="28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2400"/>
            </a:b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　競技内容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（走行体、開発環境）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倒立振子制御は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ライブラリとして提供 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制御工学の知識が無くても走行させられます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基本機能を確認することができるサンプルプログラムも提供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nxtOSEK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自動車業界等で使用されている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OSEK RTOS (TOPPERS/ATK1)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搭載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OPPERS/JSP, TOPPERS/ASP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ご存知、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OPPER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プロジェクトの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μITRON RT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搭載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TOS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開発支援スポンサー：アップウィンドテクノロジー・インコーポレイテッド様の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RT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製品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eJOS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Java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銀河系はね馬チーム（株式会社ジャコム）が倒立振子制御ライブラリを移植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上記以外の開発環境で参加したい場合は、申込み前に要相談！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開発環境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95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D2E4-D77E-463C-8097-FDA8D937E26E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4ED5-A2D2-4667-9FEA-ECCAAE2D9CE3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競技内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1000" y="2276280"/>
            <a:ext cx="8729640" cy="32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基本的な競技内容は継続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ベーシック・ステージとボーナス・ステージの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ステージ制も継続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ボーナス・ステージの難所は変更を検討中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難所を継続する可能性もあり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luetooth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は必須　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or 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採用時ボーナス付与とする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出現した尻尾走行は禁止しない。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5" name="テキスト ボックス 4"/>
          <p:cNvSpPr/>
          <p:nvPr/>
        </p:nvSpPr>
        <p:spPr>
          <a:xfrm>
            <a:off x="304920" y="1028880"/>
            <a:ext cx="8578800" cy="1191240"/>
          </a:xfrm>
          <a:prstGeom prst="rect">
            <a:avLst/>
          </a:prstGeom>
          <a:solidFill>
            <a:srgbClr val="89c3e5"/>
          </a:solidFill>
          <a:ln w="93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競技規約は、</a:t>
            </a:r>
            <a:r>
              <a:rPr b="0" lang="en-US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競技規約を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ベースに内容変更する（詳細検討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5"/>
          <p:cNvSpPr/>
          <p:nvPr/>
        </p:nvSpPr>
        <p:spPr>
          <a:xfrm>
            <a:off x="660240" y="5607000"/>
            <a:ext cx="78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※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の競技規約は、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4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月中旬に公開予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465360" y="1197000"/>
            <a:ext cx="2416320" cy="3709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9" name="四角形吹き出し 10"/>
          <p:cNvSpPr/>
          <p:nvPr/>
        </p:nvSpPr>
        <p:spPr>
          <a:xfrm>
            <a:off x="6369120" y="3154320"/>
            <a:ext cx="1714320" cy="571680"/>
          </a:xfrm>
          <a:prstGeom prst="wedgeRectCallout">
            <a:avLst>
              <a:gd name="adj1" fmla="val -86412"/>
              <a:gd name="adj2" fmla="val 138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左輪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四角形吹き出し 11"/>
          <p:cNvSpPr/>
          <p:nvPr/>
        </p:nvSpPr>
        <p:spPr>
          <a:xfrm>
            <a:off x="1225440" y="3794040"/>
            <a:ext cx="1714680" cy="571680"/>
          </a:xfrm>
          <a:prstGeom prst="wedgeRectCallout">
            <a:avLst>
              <a:gd name="adj1" fmla="val 97231"/>
              <a:gd name="adj2" fmla="val -51180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右輪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四角形吹き出し 12"/>
          <p:cNvSpPr/>
          <p:nvPr/>
        </p:nvSpPr>
        <p:spPr>
          <a:xfrm>
            <a:off x="5611680" y="1149480"/>
            <a:ext cx="1486080" cy="568080"/>
          </a:xfrm>
          <a:prstGeom prst="wedgeRectCallout">
            <a:avLst>
              <a:gd name="adj1" fmla="val -68421"/>
              <a:gd name="adj2" fmla="val 73467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タッチ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四角形吹き出し 13"/>
          <p:cNvSpPr/>
          <p:nvPr/>
        </p:nvSpPr>
        <p:spPr>
          <a:xfrm>
            <a:off x="685800" y="2017800"/>
            <a:ext cx="1771560" cy="555480"/>
          </a:xfrm>
          <a:prstGeom prst="wedgeRectCallout">
            <a:avLst>
              <a:gd name="adj1" fmla="val 138101"/>
              <a:gd name="adj2" fmla="val 61106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ジャイロ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四角形吹き出し 14"/>
          <p:cNvSpPr/>
          <p:nvPr/>
        </p:nvSpPr>
        <p:spPr>
          <a:xfrm>
            <a:off x="6143760" y="4214880"/>
            <a:ext cx="1485720" cy="568080"/>
          </a:xfrm>
          <a:prstGeom prst="wedgeRectCallout">
            <a:avLst>
              <a:gd name="adj1" fmla="val -123467"/>
              <a:gd name="adj2" fmla="val -36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光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324000" y="4924440"/>
            <a:ext cx="86439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入力：　光センサ、ジャイロセンサ、超音波センサ、タッチセンサ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　　モータ（ロータリーエンコーダ値）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出力：　右輪駆動モータ、左輪駆動モータ、尻尾駆動モー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マイコン上のプログラムによる自律制御（ライントレー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四角形吹き出し 16"/>
          <p:cNvSpPr/>
          <p:nvPr/>
        </p:nvSpPr>
        <p:spPr>
          <a:xfrm>
            <a:off x="6578640" y="2055960"/>
            <a:ext cx="1714320" cy="714240"/>
          </a:xfrm>
          <a:prstGeom prst="wedgeRectCallout">
            <a:avLst>
              <a:gd name="adj1" fmla="val -123231"/>
              <a:gd name="adj2" fmla="val 7995"/>
            </a:avLst>
          </a:prstGeom>
          <a:solidFill>
            <a:srgbClr val="ffcccc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マイコン搭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3F51-55DB-4BDB-B8C8-B3CCBDB01210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四角形吹き出し 17"/>
          <p:cNvSpPr/>
          <p:nvPr/>
        </p:nvSpPr>
        <p:spPr>
          <a:xfrm>
            <a:off x="754200" y="2776680"/>
            <a:ext cx="1714320" cy="571320"/>
          </a:xfrm>
          <a:prstGeom prst="wedgeRectCallout">
            <a:avLst>
              <a:gd name="adj1" fmla="val 119995"/>
              <a:gd name="adj2" fmla="val 13208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尻尾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四角形吹き出し 18"/>
          <p:cNvSpPr/>
          <p:nvPr/>
        </p:nvSpPr>
        <p:spPr>
          <a:xfrm>
            <a:off x="1305000" y="1044720"/>
            <a:ext cx="1941480" cy="569880"/>
          </a:xfrm>
          <a:prstGeom prst="wedgeRectCallout">
            <a:avLst>
              <a:gd name="adj1" fmla="val 102939"/>
              <a:gd name="adj2" fmla="val -20476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超音波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コー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423720" y="1214280"/>
            <a:ext cx="7448760" cy="5000760"/>
          </a:xfrm>
          <a:prstGeom prst="rect">
            <a:avLst/>
          </a:prstGeom>
          <a:ln w="0">
            <a:noFill/>
          </a:ln>
        </p:spPr>
      </p:pic>
      <p:sp>
        <p:nvSpPr>
          <p:cNvPr id="161" name="四角形吹き出し 4"/>
          <p:cNvSpPr/>
          <p:nvPr/>
        </p:nvSpPr>
        <p:spPr>
          <a:xfrm>
            <a:off x="5487840" y="1962000"/>
            <a:ext cx="1224000" cy="401760"/>
          </a:xfrm>
          <a:prstGeom prst="wedgeRectCallout">
            <a:avLst>
              <a:gd name="adj1" fmla="val -84111"/>
              <a:gd name="adj2" fmla="val 62541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シーソ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四角形吹き出し 5"/>
          <p:cNvSpPr/>
          <p:nvPr/>
        </p:nvSpPr>
        <p:spPr>
          <a:xfrm>
            <a:off x="5803920" y="3479760"/>
            <a:ext cx="1008000" cy="430200"/>
          </a:xfrm>
          <a:prstGeom prst="wedgeRectCallout">
            <a:avLst>
              <a:gd name="adj1" fmla="val -84541"/>
              <a:gd name="adj2" fmla="val -7686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階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四角形吹き出し 9"/>
          <p:cNvSpPr/>
          <p:nvPr/>
        </p:nvSpPr>
        <p:spPr>
          <a:xfrm>
            <a:off x="7743960" y="4849920"/>
            <a:ext cx="1187280" cy="503280"/>
          </a:xfrm>
          <a:prstGeom prst="wedgeRectCallout">
            <a:avLst>
              <a:gd name="adj1" fmla="val -104680"/>
              <a:gd name="adj2" fmla="val 24912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相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四角形吹き出し 10"/>
          <p:cNvSpPr/>
          <p:nvPr/>
        </p:nvSpPr>
        <p:spPr>
          <a:xfrm>
            <a:off x="5732640" y="6076800"/>
            <a:ext cx="2842920" cy="390600"/>
          </a:xfrm>
          <a:prstGeom prst="wedgeRectCallout">
            <a:avLst>
              <a:gd name="adj1" fmla="val -66726"/>
              <a:gd name="adj2" fmla="val -85143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ルックアップゲ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四角形吹き出し 11"/>
          <p:cNvSpPr/>
          <p:nvPr/>
        </p:nvSpPr>
        <p:spPr>
          <a:xfrm>
            <a:off x="2563920" y="6070680"/>
            <a:ext cx="1187280" cy="387360"/>
          </a:xfrm>
          <a:prstGeom prst="wedgeRectCallout">
            <a:avLst>
              <a:gd name="adj1" fmla="val 106412"/>
              <a:gd name="adj2" fmla="val -26870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ゴ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四角形吹き出し 12"/>
          <p:cNvSpPr/>
          <p:nvPr/>
        </p:nvSpPr>
        <p:spPr>
          <a:xfrm>
            <a:off x="8264520" y="1022400"/>
            <a:ext cx="431640" cy="1224000"/>
          </a:xfrm>
          <a:prstGeom prst="wedgeRectCallout">
            <a:avLst>
              <a:gd name="adj1" fmla="val -126467"/>
              <a:gd name="adj2" fmla="val -1499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スタ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スライド番号プレースホルダ 1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1FC7-F1EB-40E7-94EF-C38F1BD2118D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四角形吹き出し 13"/>
          <p:cNvSpPr/>
          <p:nvPr/>
        </p:nvSpPr>
        <p:spPr>
          <a:xfrm>
            <a:off x="8250120" y="2397240"/>
            <a:ext cx="432000" cy="1996920"/>
          </a:xfrm>
          <a:prstGeom prst="wedgeRectCallout">
            <a:avLst>
              <a:gd name="adj1" fmla="val -160037"/>
              <a:gd name="adj2" fmla="val -4749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ガレージ・イ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四角形吹き出し 14"/>
          <p:cNvSpPr/>
          <p:nvPr/>
        </p:nvSpPr>
        <p:spPr>
          <a:xfrm>
            <a:off x="1325520" y="993600"/>
            <a:ext cx="1224000" cy="419400"/>
          </a:xfrm>
          <a:prstGeom prst="wedgeRectCallout">
            <a:avLst>
              <a:gd name="adj1" fmla="val 177370"/>
              <a:gd name="adj2" fmla="val 121101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坂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684360" y="1116000"/>
            <a:ext cx="4606920" cy="2592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3960720" y="3852720"/>
            <a:ext cx="4384800" cy="2519640"/>
          </a:xfrm>
          <a:prstGeom prst="rect">
            <a:avLst/>
          </a:prstGeom>
          <a:ln w="0">
            <a:noFill/>
          </a:ln>
        </p:spPr>
      </p:pic>
      <p:sp>
        <p:nvSpPr>
          <p:cNvPr id="172" name="テキスト ボックス 5"/>
          <p:cNvSpPr/>
          <p:nvPr/>
        </p:nvSpPr>
        <p:spPr>
          <a:xfrm>
            <a:off x="5497560" y="15559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シーソ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テキスト ボックス 6"/>
          <p:cNvSpPr/>
          <p:nvPr/>
        </p:nvSpPr>
        <p:spPr>
          <a:xfrm>
            <a:off x="2843280" y="537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階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難所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5" name="スライド番号プレースホルダ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5194-817A-4AF2-98A7-B982193CAF08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テキスト ボックス 5"/>
          <p:cNvSpPr/>
          <p:nvPr/>
        </p:nvSpPr>
        <p:spPr>
          <a:xfrm>
            <a:off x="4587840" y="13208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ルックアップゲ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テキスト ボックス 6"/>
          <p:cNvSpPr/>
          <p:nvPr/>
        </p:nvSpPr>
        <p:spPr>
          <a:xfrm>
            <a:off x="4067280" y="537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相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3743280" cy="2822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5576760" y="3376440"/>
            <a:ext cx="2595600" cy="31514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難所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1" name="スライド番号プレースホルダ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C271-FA2A-4CD7-BF30-198F60676913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競技内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56760" y="1223640"/>
            <a:ext cx="857268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各チームがインコース／アウトコースをそれぞれ１周し、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その合計タイム（リザルトタイム）を競う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リザルトタイム ＝ 走行タイム（実測値） ー ボーナスタイム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6280" y="2981160"/>
          <a:ext cx="8721720" cy="3413160"/>
        </p:xfrm>
        <a:graphic>
          <a:graphicData uri="http://schemas.openxmlformats.org/drawingml/2006/table">
            <a:tbl>
              <a:tblPr/>
              <a:tblGrid>
                <a:gridCol w="3318120"/>
                <a:gridCol w="2112840"/>
                <a:gridCol w="329076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ボーナス対象（難所クリア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ボーナスタイ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備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ルックアップゲート通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ET</a:t>
                      </a: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相撲（押し出し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２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ET</a:t>
                      </a: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相撲（押し倒し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シーソー通過（シングル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シーソー通過（ダブル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２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階段通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ガレージ・イ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</a:tbl>
          </a:graphicData>
        </a:graphic>
      </p:graphicFrame>
      <p:sp>
        <p:nvSpPr>
          <p:cNvPr id="185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AFEE-746C-4CCE-BCF3-C1987E8DFB4C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二輪倒立振子ライントレースロボット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EG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MINDSTORM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NX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ARM7 32bit CPU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光センサ、タッチセンサ、ジャイロセンサ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超音波センサ搭載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エンコーダ内蔵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C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モータ駆動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全自律停止用の尻尾モータを追加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luetooth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通信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8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D11B-AC56-4E6E-8AAD-6C79C35FA0E4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6573960" y="1428840"/>
            <a:ext cx="2184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06280" y="1060200"/>
            <a:ext cx="8794800" cy="45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尻尾走行の出現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全自律停止状態を実現するために尻尾を追加したが、尻尾を降ろした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点接地状態での走行が出現！しかも速い！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は尻尾走行を禁止しない（速さは魅力）。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ただし、二輪倒立振子制御が必要になるエリア／難所を設定する。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走行体は、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から変更しない方針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二輪倒立振子型／尻尾走行型のトランスフォーマー走行体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ただし、尻尾走行時のコースマットとの摩擦軽減のため、尻尾形状などのマイナー変更を検討中。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1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4D73-FEA2-42DE-8861-9953173799E4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7:17:52Z</dcterms:created>
  <dc:creator>watanabe</dc:creator>
  <dc:description/>
  <dc:language>en-US</dc:language>
  <cp:lastModifiedBy>Natsumi Horii</cp:lastModifiedBy>
  <cp:lastPrinted>2012-02-15T10:47:20Z</cp:lastPrinted>
  <dcterms:modified xsi:type="dcterms:W3CDTF">2012-02-16T02:22:11Z</dcterms:modified>
  <cp:revision>458</cp:revision>
  <dc:subject/>
  <dc:title>ETロボコン公式教材 （その１） モデルの描き方トレーニング</dc:title>
</cp:coreProperties>
</file>